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28A6B-A327-4ED4-91C3-63A5A3FA1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3B22-779B-45E7-AF0A-C803AF5C0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D5860-09F9-43A0-BE2C-1FA66EA3A8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64841-AC49-4C3D-A9D9-991E24539A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0121-D64B-4491-ADE3-50D7D7C614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8D80B-F8EC-4AD0-A99B-9C30D11F8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0AA80-BB76-4D43-978C-77499F04E4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9816C-6B0C-4AB5-B145-75E59D006B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492D-7C46-4469-B49A-6EBD03393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38AE8-788E-4336-A99F-78CF8EFC7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FB47-3A9F-4C9C-84D0-47FF55EF2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7CC7A-30E1-441E-85CF-52431576F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72454-6E90-497F-85FA-A4476119FB0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Times New Roman"/>
              </a:rPr>
              <a:t>[[PBib]]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1692360" y="765000"/>
            <a:ext cx="5745240" cy="548640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1762200" y="1413000"/>
            <a:ext cx="2087640" cy="23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2276640"/>
            <a:ext cx="131760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data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067280" y="1413000"/>
            <a:ext cx="3097080" cy="252072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588000" y="1557360"/>
            <a:ext cx="17337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References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908000" y="3860640"/>
            <a:ext cx="1656000" cy="5050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3284640"/>
            <a:ext cx="231156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Quickly search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authors and keyword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564000" y="3860640"/>
            <a:ext cx="360360" cy="503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179280" y="4437000"/>
            <a:ext cx="1920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Previous search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2124000" y="4292280"/>
            <a:ext cx="1511280" cy="36036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59280" y="314280"/>
            <a:ext cx="252072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Number of citations in 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059280" y="2133720"/>
            <a:ext cx="217440" cy="28728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3276360" y="981000"/>
            <a:ext cx="934920" cy="115272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356000" y="4076640"/>
            <a:ext cx="3024360" cy="360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7159680" y="4332240"/>
            <a:ext cx="1515960" cy="36828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urrent pap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619280" y="5084640"/>
            <a:ext cx="5545080" cy="79236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020000" y="4941720"/>
            <a:ext cx="1992240" cy="64260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Details of currently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050920" y="4797360"/>
            <a:ext cx="1944720" cy="432000"/>
          </a:xfrm>
          <a:prstGeom prst="ellipse">
            <a:avLst/>
          </a:pr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79280" y="5641920"/>
            <a:ext cx="2340000" cy="1191240"/>
          </a:xfrm>
          <a:prstGeom prst="rect">
            <a:avLst/>
          </a:prstGeom>
          <a:solidFill>
            <a:srgbClr val="ffffff"/>
          </a:solidFill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Narrow"/>
              </a:rPr>
              <a:t>CiteKey, category, and recommendation of currently selected referen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258920" y="5157720"/>
            <a:ext cx="865080" cy="503280"/>
          </a:xfrm>
          <a:prstGeom prst="line">
            <a:avLst/>
          </a:prstGeom>
          <a:ln w="25560">
            <a:solidFill>
              <a:srgbClr val="3333cc"/>
            </a:solidFill>
            <a:miter/>
            <a:headEnd len="lg" type="oval" w="lg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Peter Tandler</cp:lastModifiedBy>
  <dcterms:modified xsi:type="dcterms:W3CDTF">2005-02-03T22:04:48Z</dcterms:modified>
  <cp:revision>2</cp:revision>
  <dc:subject/>
  <dc:title>PowerPoint Presentation</dc:title>
</cp:coreProperties>
</file>