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56947"/>
        <c:axId val="96911892"/>
      </c:barChart>
      <c:catAx>
        <c:axId val="29356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11892"/>
        <c:crosses val="autoZero"/>
        <c:auto val="1"/>
        <c:lblAlgn val="ctr"/>
        <c:lblOffset val="100"/>
        <c:noMultiLvlLbl val="0"/>
      </c:catAx>
      <c:valAx>
        <c:axId val="96911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56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7BE-91F1-4ADB-AF1A-D5AA18AD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A67-BB46-4F76-AAF2-08DC355A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88F-DABF-4F03-8E46-37DC362E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ED4-BC1C-4BA3-9F9C-E06BB003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10A-D761-4FAA-8FEB-9AE8EE4F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8E7-FBFB-4D72-9358-4DD9215F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F96-16D8-4E5C-A554-25675C23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680-D1C5-416B-A23A-F6A2C598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809-3035-42FA-ABE8-DE458B55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368-AE45-417A-AE1C-A59A223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867-02DD-4900-B73F-13723B8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781-7344-4039-87FB-A435F343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19EE1-3008-4A01-BD72-0046CB4CE0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