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64129"/>
        <c:axId val="58893811"/>
      </c:barChart>
      <c:catAx>
        <c:axId val="97164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93811"/>
        <c:crosses val="autoZero"/>
        <c:auto val="1"/>
        <c:lblAlgn val="ctr"/>
        <c:lblOffset val="100"/>
        <c:noMultiLvlLbl val="0"/>
      </c:catAx>
      <c:valAx>
        <c:axId val="58893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4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A73-7ACD-45C8-9C78-3C8B8290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445-FD1E-4D91-A2CF-2A33744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743-6B03-48F0-8CA3-EE10D8C5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A1E-920B-4BD7-9E91-12E1B874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AF1-D688-4DAF-BA53-6D87A13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9AF-0E7C-4D73-A99C-B0E1ADF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56B-CBEE-4BC4-BB02-1D59A7FC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120-E280-47E1-80EB-6AFD9799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448-6BE2-4052-9CAE-C3C22B5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AD4-1DAD-4FE9-B5F3-0382CD8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F31-2EB2-45C2-9947-E3D76BA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3F8-31FE-4ECC-B109-9C96480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4B6ED-2383-4ABA-9A41-FE2CF4CAB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