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3778750"/>
        <c:axId val="70388686"/>
      </c:barChart>
      <c:catAx>
        <c:axId val="3377875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0388686"/>
        <c:crosses val="autoZero"/>
        <c:auto val="1"/>
        <c:lblAlgn val="ctr"/>
        <c:lblOffset val="100"/>
        <c:noMultiLvlLbl val="0"/>
      </c:catAx>
      <c:valAx>
        <c:axId val="7038868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377875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4C6D2-A995-443A-9B17-26F0414A9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64ECB-6F0D-4C7F-BE80-23C3F33F5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37A19-5A1D-4B93-A62D-6BF0E090C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C844F-D334-47E9-8B46-C521DCF30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93E3D-A9E0-4CD9-852D-E160658A2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34649-C352-4A38-BA83-D2555547E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20101-610C-46C4-BD7E-5D7D48DE7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0DF3A-A96B-476B-85CB-C2934D220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FF2F1-0A40-4FD5-B4DE-4805969F4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DADC8-A2E4-41E3-AC1C-886CE4FB7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5B189-2D84-4FB4-B9B9-256C8CD57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96F2A-FDFA-46C2-B89A-E73B840E2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6CDDB9-36C3-4EEF-99A0-069197B0441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