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55678"/>
        <c:axId val="1971941"/>
      </c:barChart>
      <c:catAx>
        <c:axId val="91355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1941"/>
        <c:crosses val="autoZero"/>
        <c:auto val="1"/>
        <c:lblAlgn val="ctr"/>
        <c:lblOffset val="100"/>
        <c:noMultiLvlLbl val="0"/>
      </c:catAx>
      <c:valAx>
        <c:axId val="1971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55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40E-8B4E-4C0F-9088-00AB14FB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3BC-F82F-44EA-8530-667464E3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77F-2FDF-4FB9-8B62-F7D1A802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628-74B9-41C1-9EA5-BBA0EB0B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FAA-6EB3-40CD-9EB6-8FA26E44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76A-89B8-416A-9B53-B1FF50B1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FD3-C2DE-4480-9DE9-852AE51D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349-B71E-4EB5-B542-F38BC2B3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082-484A-43E5-AB44-F97A08BF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C73-954A-45F2-9360-355743AE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103-D41F-4E17-87E7-5C3329E7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740-A2D8-4F6F-82DB-AE3C2039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9EBAB-8F0D-4D16-94F1-D62522610A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