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798619"/>
        <c:axId val="66307284"/>
      </c:barChart>
      <c:catAx>
        <c:axId val="137986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307284"/>
        <c:crosses val="autoZero"/>
        <c:auto val="1"/>
        <c:lblAlgn val="ctr"/>
        <c:lblOffset val="100"/>
        <c:noMultiLvlLbl val="0"/>
      </c:catAx>
      <c:valAx>
        <c:axId val="663072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7986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9C83-9B82-4BFE-8BC5-0ACCDAFB5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9D54-E0D9-4CC2-AF14-909C86818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B687-3255-4454-A564-4E270C0BB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B14F-A81D-4B2A-9064-8922DCABE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CD35-1F62-46C8-94A9-56A3F21A3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581E-4477-49BB-B747-A3F593847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CA65-056C-4EA1-9C76-4664D6C8E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B6A6-69E7-4BBC-8B98-8E130A8CF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A202-AB65-424B-807E-37E0B0494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A993-B938-496C-8E13-6BE73C542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C6FA-271A-4599-96EF-47E4CD2DE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3CC8-02E3-4EEB-B80D-F6D726AEC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C14711-9D9B-462C-9F1E-4066FD78906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