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D30D-A2C2-4A66-A5F6-7A9661309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DFF8-0356-40A7-A178-7DD260CDB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7F7628-7335-43A8-A4A0-92E372357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3D9576-1F90-44D6-92FC-A4FC17341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E7C9CE-6CB7-456B-9819-8CF71FEC6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B1D80B-D2BC-4D7A-A6A3-1331AAD8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DF0ED0-0E7A-4072-A61C-9CD4FE049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70AB9D-00BD-4DEA-94E7-728BB2F3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B4330F-27DC-4FD4-BD8E-CB970A623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0C978C-B7F6-45DD-9BBB-99F8C1BD9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02AEB1-CBB1-4802-AF93-FDFDE51C1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51809A9-2ABA-47F3-BE84-43E2050AB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2AE0-3F09-4601-BC6E-6A409EBDE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BF14789-3CF0-4D62-A9EB-7889D28F4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EF46DB8-0A04-41AB-BEE6-514535CC1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749A733-7012-43E6-9A8E-F6698D7EA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2CD3AD9-A65F-4137-9144-B1B64B297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8BBE2B8-79CD-46DA-ABAA-534FE63FF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924CD63-139B-443C-A315-85577B43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BAC7E5C-E62E-40ED-9952-2DE301CF8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CB18D30-12D3-4B96-BDAD-23C763DB9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2680A7D-F293-47EE-94F5-FB2561991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52B650A-FA79-48CE-9C5B-C2DAE197D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4B99-0A8A-46B8-86DB-8389AFA36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514FD91-8D4A-46AB-99E4-C2D31C3EC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6B8341-B55C-4133-90DA-459E5F91C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C1F579-F606-4F5E-9E82-E2491407F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9D27AB-5CAB-48A3-AA43-3D6A994E3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F23C27-E856-43E8-8063-592F73873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5C8F71-6172-4281-835F-5B0A64EC1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01F094-3F27-4139-8D7C-EEC23E248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040F87-DE3A-4921-A1E4-A7B2A649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641846-C431-4016-A516-E8DA9076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71ACB6-90F4-485D-908F-8E4076A1A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87E98-5408-4284-AF39-6C5D87E86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8DA3AE-DFC9-42CF-A462-14B8FA9A9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BA5EE5-5EF9-478A-B71F-AFFF21C1F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176279-5FE5-4254-9147-6BFE293FC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14A7BA-40A6-4ED3-8967-21E56971E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0FAF11-188B-4128-9587-A0E1A8186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7055C4-5598-4098-83C7-F8870EF8E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9C19F2-6C94-4940-8098-6C7A575C8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7C79F0-FBE6-46BA-8971-99CA30138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5AFE0D-FF9D-43FB-972E-A48CDBAB8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89F3A8-7327-4A09-AC4D-655F33752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D2807-601C-4E72-8FF8-52C52C125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B2B6EF-539E-4946-813B-2B3FC83A8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48FA6B-CBD1-48F5-A5A5-3CA81BAF6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EF8F88-368B-4ABD-8410-03E686EB4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FB5D69-8473-4AD5-88A7-D1EF7351D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966176-1CFA-4472-94D1-8132E4869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ED044-7A77-4990-991A-5BF305365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DA171-4BF2-4043-9AF7-01BA86CF8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47413-8ADE-4C82-8B1A-52C7D5163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89D57-7C30-499D-8B1F-72C4B35FF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17E88-E80B-4CF2-9CF9-B76EDE02C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D400-228E-47B3-A550-C9B711990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BB6B2-32A5-45EB-A702-1A1C2920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6409C-A324-43C7-B764-F34E7B66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0FA90-3335-4852-90F1-315D942DF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AD2BA-4BE2-4143-8459-370BCC13E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5ADE9-91AB-460F-B15B-615D92963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F70E8-EFB9-4CE7-873A-BFD1819B9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448EC-44EB-4884-87CA-E89160DFF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6B0F8-328F-4E0D-902A-4D0EF0C3E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98A74-6784-49E7-B45D-1B96A2622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2A3BD-8FF5-477D-911A-4384ED9AF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572D-464D-41AF-9715-2510CEDB7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AF2FE-EC84-48F4-ABFB-2A81FE951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70F4B-1875-487A-B36A-2D7E9681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1F6C4-EFF7-4EED-A73B-9A3BBFF7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B1E04-DB6F-43DB-A722-0E66E5537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0522D-242D-4F93-AF2D-DD6A94085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F7A9C-F066-4405-BDD1-8ED9A4A1F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FD34C-5D65-4AF9-995C-10FB454AC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EC4D6-BE87-425C-BA6C-BE30F94C8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BB1FC-603E-43FE-A1AD-D41A1E8D6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0D2A7-42B5-4E0F-A762-2A02C77C2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4698-6264-4BE4-AF5F-1120022D5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C98B8-AF0A-4EBE-87D9-9AF7F9488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4DB23-B16B-4FA7-80D8-961815F4A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8410C-F679-4EEC-BA52-9FFE9CE1B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02436-AA99-4161-8EBC-98C6C8CB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FDF23-ABB2-4EB7-8215-A71D159E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7903E-0760-4A9F-AA0C-A0F89CC3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04EB0-5D5B-4373-B40A-1946F9A68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47A51-003A-4850-B563-C17EEEDE0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CE341-6B47-4777-A309-23891F16E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EA875F-420E-4846-BC3F-7284B8064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9DB4-DE5A-43F2-861F-B8148D703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E45841-58D9-48ED-8C76-33681E9C1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9FADAB-1B44-4C29-9D37-25E1B7A4A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64CFED-EBFA-4B6F-A263-89EDC24DC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46DEA3-09B7-47AE-90A3-2E28AFFF3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4C5823-B5DB-4412-A0AA-04B46675A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C50748-D818-4E7E-A49F-65A1FFB7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4F80F5-401C-47EA-A2C0-39E1C574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89D304-D034-4DBC-A301-557BAECF2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CE6EC3-B8C6-49B5-B2F9-076AF015F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95EBB9-3FAE-473A-A9E3-F4B8AEF28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9692-D0CE-4E92-8504-9FC973E69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5420ED-31E7-4E5E-8A3B-61CB2B503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5CA068-F49B-46FA-87F0-D06DFE846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CE9EE-85B8-42C4-B5F5-D2DDDC82A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3B8F3F-3E4D-4EBE-A0D4-2385847A0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8BFBD9-A9FB-42FC-AC64-6D7BA0F48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00A8B3-DEAA-4E15-92B7-DD445A5B8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5758A1-31EB-47CB-8B1C-FA959D560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594611-70A9-4F82-9DBB-2478130EF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7A3FF8-0383-49C9-94BB-DCBE9ECA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2D9CDD-2D8B-451F-8EDB-1A89D8D54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F101-17BF-4497-A68B-4E6F1C49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5C2F4D-B823-46FE-88FC-EBDC8C506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8EF6D7-1AD6-4556-AF8C-7F1E29881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92163D-1C16-4449-8B28-B1698AFCE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43D960-2DE9-4C01-98F4-239120590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3C30C4-83AE-481F-9385-A23C4B511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282C4B-3E1B-4F9F-8B27-2D1BA7BD6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AE24CB-8FDB-4011-B694-3A7D725AB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F67338-6722-491B-AA3E-8436161D6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9937E3-A13D-4B06-83CC-412207AA7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435A41-85B5-4818-9617-71166E460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6195-44D6-4C15-8D98-01F6BB7E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84D362-E937-4448-8625-F96CC0E0A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893B4E-5A12-449D-9A53-3CA8137F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70F387-8985-4CBB-BCE4-B54ACE296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A750C8-D87E-48D5-ABF9-9EBEC614B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F4643E-DB77-439C-9C13-D0498E0B7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221094-947B-46E3-B458-E7E1C6F02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6F57EC-B5B7-443F-B7B9-3E02F9F6C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EA8E5F-95F5-4D57-B53E-C31BB0473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ED5A94-2C52-49C4-8BDC-605CA91AC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8F1E86-4DD6-48FF-AFB6-6190F0C03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A2E0-D761-4A52-AD61-B03693CAE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5A1749-89B4-4E7E-9C07-FA8D18F25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66F696-DF40-4FBB-8EA8-70E8FD79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0DD8FA-9491-478E-8A05-C8F370A6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30FC5B-74B7-4FD9-8D8E-7E667718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38F25F-9A96-4B35-B55B-ACB77D631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E40799-B918-479D-9169-3D586E06F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F0316D-EB1F-440B-B0B7-6807EAE07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42A6DF-F6FA-4DAE-8925-63B2CA4F2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428AB0-FD81-4C95-B1FD-AC49429C3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318576-27C0-48FA-B401-B0C9DC6C4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982FF-086B-4DCF-8370-BC4B18D2DA4D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AA7FB-5AC0-4DB3-8992-FAB7071F45A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B7787-AA46-4481-A387-1525D46AB33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9A0CB-C594-4620-B322-05E2EAEFA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ED697-B377-4E93-9A37-7FCD1972D939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C0E4C-F670-4187-8883-42DAF39A2AD9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483C8-453C-4454-BCD5-00227ABA76B3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16430-8FCB-4EC7-805A-8A0A55BE69DD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DEC84-6464-4798-AF02-4620F43EE4F9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CBF19-CC08-40A3-BA76-6A9C100BF1C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609DD-DA7B-4FAA-BBD8-85636A2A7B4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11172-0031-4BAC-B29D-6CBFE95F49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3EC2B-8965-4524-B13E-AEDCCE96325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DD79F-C0FB-4739-AFC3-75000C329D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4285D-CD92-44D2-9B00-0D9ABC10CCC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46BD1-6B27-4C90-9BD4-DA73F6248E72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5B423-D630-45B1-B82E-4C733CC754E7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3C3CC-FA2F-48E5-BADE-0CB1708DC26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81DE4-9796-4160-BCC8-B03CC456EF87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BD4B7-7CB1-4552-A489-80864521E0B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B0E48-E9D9-4E41-8059-A716F5693121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4BEBE-4D40-4C85-A9D7-315D7D3D2E3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CBDE7-ECCD-494B-9D2B-18D6244A0DB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3FD21-6F6A-4668-9F8C-E61BD99DF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7276-D2DC-4DC6-8F41-A100020965D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EA2BB9-6997-4474-8860-7F8B74C94467}" type="datetime1">
              <a:rPr lang="en-US"/>
              <a:t>07/31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BCA37F-51F9-4FAE-9297-56BB9807FF6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EDD7E90F-7853-4619-9FA5-AC76BCA5C3B0}" type="datetime1">
              <a:rPr lang="en-US"/>
              <a:t>07/31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1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3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7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" dur="2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9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44B59-EF19-4699-A159-FC82624F3024}" type="slidenum">
              <a:t>3</a:t>
            </a:fld>
          </a:p>
        </p:txBody>
      </p:sp>
    </p:spTree>
  </p:cSld>
  <p:transition>
    <p:comb dir="horz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000"/>
                            </p:stCondLst>
                            <p:childTnLst>
                              <p:par>
                                <p:cTn id="1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0"/>
                            </p:stCondLst>
                            <p:childTnLst>
                              <p:par>
                                <p:cTn id="1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161ACC-0DF5-4098-8103-B1E067FF3462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D3048F16-CA90-4F3B-9BC3-DBF5B9B89FE6}" type="datetime1">
              <a:rPr lang="en-US"/>
              <a:t>07/31/26</a:t>
            </a:fld>
          </a:p>
        </p:txBody>
      </p:sp>
    </p:spTree>
  </p:cSld>
  <p:transition>
    <p:wedg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4000"/>
                            </p:stCondLst>
                            <p:childTnLst>
                              <p:par>
                                <p:cTn id="2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6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6000"/>
                            </p:stCondLst>
                            <p:childTnLst>
                              <p:par>
                                <p:cTn id="2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8000"/>
                            </p:stCondLst>
                            <p:childTnLst>
                              <p:par>
                                <p:cTn id="2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4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5B9EB2-9597-43BD-955E-0DDBA2CF835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258C9B69-08F2-4F74-9575-CFB1891432CA}" type="datetime1">
              <a:rPr lang="en-US"/>
              <a:t>07/31/26</a:t>
            </a:fld>
          </a:p>
        </p:txBody>
      </p:sp>
    </p:spTree>
  </p:cSld>
  <p:transition>
    <p:wipe dir="d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3000"/>
                            </p:stCondLst>
                            <p:childTnLst>
                              <p:par>
                                <p:cTn id="27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4000"/>
                            </p:stCondLst>
                            <p:childTnLst>
                              <p:par>
                                <p:cTn id="28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0"/>
                            </p:stCondLst>
                            <p:childTnLst>
                              <p:par>
                                <p:cTn id="29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7000"/>
                            </p:stCondLst>
                            <p:childTnLst>
                              <p:par>
                                <p:cTn id="30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8000"/>
                            </p:stCondLst>
                            <p:childTnLst>
                              <p:par>
                                <p:cTn id="3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9000"/>
                            </p:stCondLst>
                            <p:childTnLst>
                              <p:par>
                                <p:cTn id="32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7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9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4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9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3497B9-2FAF-481B-9074-DCE2A549D40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904DC153-AB49-4FCD-9945-D8ECA4602816}" type="datetime1">
              <a:rPr lang="en-US"/>
              <a:t>07/31/26</a:t>
            </a:fld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9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4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5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3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4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