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E7DC-81EE-4BF8-B3FC-843A2E0C6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E630-0673-48EA-9A45-84CE92E0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85A7FC-D361-4FB2-ADDD-22D09C5B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CD9B8-A7C9-437A-BA1A-032A9367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8A8E6-701A-42EE-B5AA-B3FEF600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82D06-F5E1-44BC-AE60-26FFA149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8B26B4-8C44-49CD-8E2A-DB370CEB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58730-4F21-4B7C-B020-AB91D22F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3B3C3D-1CF8-4EDE-AAE7-7B488DFA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D0BB3-94A4-4EAE-ACC1-53FA5B9BB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71B16-0AA7-44A9-994F-3BFEA7B7F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9A46F2-2B86-44B7-BD20-3B64D2022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191C-8690-423D-BB6A-5879973A2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B73572-D929-4BAA-8219-B53B1434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765C38-2BAE-4523-90C5-EEB088EB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863131-FCD7-4961-8786-F1F03894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C5CF0C-AB85-4577-9194-A2CF6FBC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BB736D-C367-46D4-826D-D4A0DB5C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1CCDD6-9684-4A3C-A9EE-8C3D692C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427C48-7156-49EE-B598-0DBF1CF3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BE74E8-06B0-424E-BBD2-ADA80D7D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34A394-4917-45C1-AE42-37AB77D9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445795-2FEE-4A26-AF37-E555FAD3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3D38-4C74-4983-96F5-64ED2E598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912723-9738-41F1-8E0E-0C88C6A67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72715-3B55-4ADD-9983-A90D6347B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7A878-5CDC-4034-85F0-39A6A13E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B1DBB-2402-4D8B-B28B-1BECB4A5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DB4F7-4066-424A-B51A-666B44C6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04667-B1D4-439D-A694-917D63BB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0DFB2-9A42-48E4-AA75-0566D988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AFD0D-82F7-4583-8D42-2E7ACF8F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F8695-3B3B-4F8C-B0B8-8C15BE7F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8997B-BF0E-4EAA-9A00-E7C099B8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042D-94DB-4A35-9ED6-D1F70A056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0FB7D-000A-4DE2-B3BE-1DE7D201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FA4A1-3CF5-49BB-BFF6-58FF9804F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C4A69-054D-482B-BE27-024E13B17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A247CF-136C-46EF-9898-BDE2F4B02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086606-2AD2-408B-A95B-6BD7838A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25147A-80A9-46B5-886C-FD12E515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96E829-1FB7-456E-BD4A-4EFBBDD2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78E814-47AC-4A71-926E-47779F6A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5B0A9B-AAE5-4BFB-836E-3ABDA93E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E0B1B9-7478-4551-A86C-27F65B33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EFF4-63A2-4A30-A182-94B1AD60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808B3B-7017-456A-98EA-C9C8A3E5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12A29A-695C-4F05-A871-EA9C31D4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DA6AAD-A9E0-4839-BFBB-6E27D98E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F6781-423E-4D38-B1E9-E52852F91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FFA821-03BC-41DD-BDA7-52869A3D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5550-36BF-46E1-9773-6E2676D4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1717-4E18-406A-8618-4B867FAB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FC8E-7AD9-4F32-AFDD-BE2B6E05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444D-3699-49EF-BB1E-C6C60808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B995-4744-4063-BF26-F291CFB5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73CE-5127-468E-9F5F-D65AE21A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D0F1-2479-4E1A-BE15-1A5A0C04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64A8-C8EB-4B93-A15E-A34FE57F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0BF3-E2F8-43A8-B3AA-59C8A67B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8DBD-32DA-420F-8F68-EF8900F67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B653-5AE5-454F-B90E-F4AA98B5B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FC21A-C518-4937-8079-7D1087A60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F6C66-353B-48D0-AACE-BF7C4634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0279D-DC6B-47F6-BED1-355AD30A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4D801-BFE3-4F1D-90F3-6F8FA15E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EB81E-70E5-4369-A12F-1B3DCC0F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505B-6BAF-43C4-864D-7A60A2BC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13BBD-D7D4-4E8B-B276-3D07D0DD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0EC81-754E-43D1-80C5-891E34DB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1BBC4-EABC-41E0-963E-98D4ABFC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86738-437C-49B3-AC0D-660A1C5E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096E8-B1A1-4D3E-878B-005020C8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69EF7-A7F1-4EA3-BAB7-60D816B14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17CE0-2306-4BF5-AFE2-6214D7869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5FA62-116B-447A-8C6A-101F6BBA3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7DD77-B2DE-4559-8C30-A9E4C675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B2DD1-77F3-468C-9476-14CD6CF2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5713-FD56-4709-A63B-1C0B7276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C6FF5-456D-4F07-BF70-A4C54DB5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4C269-4D87-4125-91DA-845C642B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597FC-B5B4-4280-931B-4133CEA9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BA307-1E6C-41B9-A76E-7CBC49B2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B5016-1587-4DB0-B6CB-D758F445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7D1C5-818B-4B42-A697-B82C7578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8DEDC-F4BE-46E7-866E-B6CD6034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F6DA0-B544-454F-ABCF-DD20AE049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8A9EA-088E-4CE8-A898-65116B816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96442A-2C57-446D-B581-AA3348232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1913-A342-4114-ACDD-117FEFA4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A83BCB-BBD7-4D3F-A3AE-E22CD964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A73D13-F87C-4AB0-A1FA-0ECC4E6D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0A2754-E09D-4670-84E1-C5DCF8D7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D40078-1100-427A-B047-73112271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A8008F-71EF-439A-817F-F8E8A2DB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15E23A-989C-4634-8840-B5CED158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D292B2-F8D1-4B61-95DD-3CE4409F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63172E-B99C-4D17-BBA3-E7D03CDD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A8D5CE-78C9-4790-98D0-670C34E8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BC8DB2-2619-4DC9-B085-BD8C9F321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72FF-90BF-4240-85EC-B4F8FAED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A02CA3-1D47-4483-85B3-24B9B1FFC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0E0CB-257B-4771-AC63-9794C62F7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1F37F-B60C-425E-AD16-EE507D05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254F2-A115-4DD2-B857-38CADD49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594A9-8C7B-4E26-912F-A2E54F6B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E1708-1FB5-446C-8667-25E297D6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764CF-4474-43BF-8F1A-B7BED79E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CDF1A-BB09-4AF8-9693-C976C781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1C6B3-74D7-4AED-9538-82C79A2B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A53DC-3D28-484C-8623-639C7415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5D6F-D660-47C1-A2DA-51D17000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7969D-606A-4C40-A39E-CAD79130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C939E-7BA1-4C92-B066-61D977120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F5EA7-2837-4D4F-84E6-1AD7AD025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4D0E3-F930-4606-8B31-8958400A7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FD715-D9DB-41E9-8897-540B3117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3501E-B705-4543-B354-F6BBF53A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160E3-2860-4F92-A8C4-69DC945F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4FDAA-D1FA-4B67-8CCC-30F77A26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D2A18-31C6-4A4E-82EA-3A8E2898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82DDC-5FE8-4A59-B7D1-371604B8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46F0-47F3-42BF-A265-F974B836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9240C-4B45-4B84-9BFC-1DFC53F7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8E14A-1114-4658-AEBD-FB9716E1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127C3-73CF-4DB1-B14C-E074AB7D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1094C-74C4-4F9C-A194-AFFF759F8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006FE-2342-43C3-9E1E-22191D2A4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89B7D-14D8-4F8A-B292-28413DBB4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EDED5-2E80-4EAB-A355-8886E788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CBC22-1804-4527-AAB6-49A5AE41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B9FBD-1384-478D-9E58-55BD9618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444F8-008D-46EC-830A-9036D017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BD5B-A24F-4F0D-A6D0-7D9F1D8C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6A4FE-9885-4049-B9CE-5A980F7C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6B3AE-6BAC-487B-AC47-95B087BB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42C63-47E3-4A43-8F0E-83790F73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82E7B-7BEF-477E-AE62-7F9184E6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C0FEF-F735-49EF-9FAB-E7468788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248EE-BF90-40CF-B18C-53B5BF442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7318F-2D50-470C-91E3-E29D0D42A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6D50B-5AA9-4801-8E5A-2EDA97468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D0E79-57C3-42CD-87B3-F8694763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7872D7-9249-4ABB-B9E1-155A8DCF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87FD-1BAE-476A-A3F1-1AD04B95A04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C0D1-93DF-408A-9D34-706A16CB569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138F-3846-4E81-88FC-460A18E3E9E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3409-A0CE-41BD-AD12-2C0704D21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1F34-5BA7-45B9-8FB2-6B8308026DBD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FAC7-4590-436B-89FE-3E40F5D1610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26BF-2635-4CC2-A69A-DD2715A39262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CCE1-3D4A-40E2-8A27-D2681F11DD9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A369-D5EC-4C09-99E0-D610929629A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D377-C76E-4FA6-A06F-909D5DD7436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4810-D2CE-4450-B476-A0686A462DA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0BB4-ADFF-46E5-9F71-5950393AD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C960-AE8B-4629-88AA-82A40433DB5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CB0B-E1A5-4F01-8A0E-96502D35E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0FB3-AC23-4114-B637-FE1BE7BB413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6755-014B-4A2E-9470-0E5A74B428C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E95F-FB3A-4379-B735-3B5F32441341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82BF-ED21-4986-A34E-77EDCF9794C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6CF6-7F65-41E6-A597-03F6886A4BC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8A9D-DC1C-4180-B29B-4642D8D5EDA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CCE0-999A-4581-9390-AE63043364B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4096-F9EE-48CD-A131-638ADE839DE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41F4-B03C-449C-B2A4-D8E8F96F688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80A7-5DDB-4868-8FAD-F6B311C11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A8AD-0CA0-4CCB-B7EB-C5CB991618F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11A76B-3876-47B0-8583-0037397D1057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240C0-8A39-4B2E-99E7-EAF245C602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BEE223AE-77B2-41B9-8200-FE6D2BBC8424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33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EA82C-3323-41CE-8950-1EBE88302E34}" type="slidenum">
              <a:t>3</a:t>
            </a:fld>
          </a:p>
        </p:txBody>
      </p:sp>
    </p:spTree>
  </p:cSld>
  <p:transition>
    <p:comb dir="horz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1C1D0A-3F7A-4896-9688-6E5B5A545D8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5F7E8555-CA89-4367-95F0-097CC1A9794A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8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AA9D4-A497-4D5A-9DC8-3C05375F923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DAA99293-F20B-457C-8423-F5A5023C6E6D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0"/>
                            </p:stCondLst>
                            <p:childTnLst>
                              <p:par>
                                <p:cTn id="2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6000"/>
                            </p:stCondLst>
                            <p:childTnLst>
                              <p:par>
                                <p:cTn id="2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7000"/>
                            </p:stCondLst>
                            <p:childTnLst>
                              <p:par>
                                <p:cTn id="3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8000"/>
                            </p:stCondLst>
                            <p:childTnLst>
                              <p:par>
                                <p:cTn id="3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9000"/>
                            </p:stCondLst>
                            <p:childTnLst>
                              <p:par>
                                <p:cTn id="3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34F73-1445-4265-9C16-AC4C6B18E47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B5976486-BFA9-4106-B473-97DD3DA04F6A}" type="datetime1">
              <a:rPr lang="en-US"/>
              <a:t>07/31/26</a:t>
            </a:fld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