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88464"/>
        <c:axId val="18263271"/>
      </c:barChart>
      <c:catAx>
        <c:axId val="77288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63271"/>
        <c:crosses val="autoZero"/>
        <c:auto val="1"/>
        <c:lblAlgn val="ctr"/>
        <c:lblOffset val="100"/>
        <c:noMultiLvlLbl val="0"/>
      </c:catAx>
      <c:valAx>
        <c:axId val="18263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88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7EB-59F5-40C7-B40F-AE1F4610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6DF-D290-4381-AD24-2CFFE5BF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C0D-BBDE-401F-ACD7-1F4BD414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30E-3242-4BE2-BD2B-EC57A80B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43F-C90D-4BB4-8374-8AFD26CA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31D-BBAC-4CCF-AD29-F3640ECC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B15-1DEC-4F5A-90D9-5531CADA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330-023B-487C-9C10-1DAC85F5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0DA-2CA8-4825-BAB4-F1D71873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DE89-F507-492B-92C1-FAA571A2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89E-37DF-4C3D-9360-6E0ECCF0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C85-2055-4907-B216-EB3D979D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F5D71-F06F-4C4C-8A7F-ED55E51112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