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24965"/>
        <c:axId val="94771861"/>
      </c:barChart>
      <c:catAx>
        <c:axId val="90524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71861"/>
        <c:crosses val="autoZero"/>
        <c:auto val="1"/>
        <c:lblAlgn val="ctr"/>
        <c:lblOffset val="100"/>
        <c:noMultiLvlLbl val="0"/>
      </c:catAx>
      <c:valAx>
        <c:axId val="94771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24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231-3AB1-47D1-AD0E-9E25FAAC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4FD-9947-4017-911F-F634D271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8D2-571A-414E-86E3-0BA80EA3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318-19B2-46C5-A4E3-9DB512E4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B4A-13CE-4DEC-8343-ACF7E65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BF9-4BAF-46F0-9F4C-F27BD4F3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E4C-FF97-473F-BA5E-09A2F7B0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825-9D2F-4DDC-A01E-EFF6C7D3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F65-4FB9-43F3-A19B-77F3588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C96-9584-44FD-AC71-80BB0FED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DA7-0DE3-42C8-B98A-A2A5AC9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009-F41B-4DFA-B302-A4689DA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DF4C2-57A5-4E4A-AD02-5D9C045B6B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