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61866"/>
        <c:axId val="15623613"/>
      </c:barChart>
      <c:catAx>
        <c:axId val="44861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23613"/>
        <c:crosses val="autoZero"/>
        <c:auto val="1"/>
        <c:lblAlgn val="ctr"/>
        <c:lblOffset val="100"/>
        <c:noMultiLvlLbl val="0"/>
      </c:catAx>
      <c:valAx>
        <c:axId val="15623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61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1E0-3F40-4224-B3AC-43DF9EB4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5D7-0B01-4586-BBBF-45F39AF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362-0FA7-4686-B1B1-3B140302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C51-3FCF-460B-A44D-ECE3F9C3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418-AE3B-49E6-88E0-1317519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CFA-7DA0-4FEA-AA39-1681F9E0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58A-4EC5-4C9C-84ED-69A926CA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187-F215-4FF0-85C9-060D2DF2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C28-6BA8-4DF3-A8C9-67670BB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E53-EF54-4B9B-85BF-2454428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215-4332-4CF2-9268-8900756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2B4-E183-4140-8829-07953E3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405B4-15EE-439A-A6AD-B6FDEB35C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