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50952"/>
        <c:axId val="80013329"/>
      </c:barChart>
      <c:catAx>
        <c:axId val="71750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3329"/>
        <c:crosses val="autoZero"/>
        <c:auto val="1"/>
        <c:lblAlgn val="ctr"/>
        <c:lblOffset val="100"/>
        <c:noMultiLvlLbl val="0"/>
      </c:catAx>
      <c:valAx>
        <c:axId val="80013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0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0B0-90AC-4F95-BDDD-9A0494E7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859-F5C9-4B38-B3AF-37C20A5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280-E60C-4D7E-863A-D7027A5A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B9A-3B88-49D7-A4F9-3F370796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919-8456-4580-88A9-5CA8429A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383-98E1-4A06-A0A4-9EFA761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CA0-8B8F-4E96-A928-DBE6F19E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884-348E-46AB-96F5-C136ADE2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99C-7688-44D1-BD58-B8751899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47D-0ABB-445A-9F08-3086286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D1C-110B-4775-8956-3BE98DA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4B9-6F37-4E82-9C31-098FE93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BE524-7C4B-487E-94F0-6EBE4634F0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