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81510"/>
        <c:axId val="86339991"/>
      </c:barChart>
      <c:catAx>
        <c:axId val="97381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39991"/>
        <c:crosses val="autoZero"/>
        <c:auto val="1"/>
        <c:lblAlgn val="ctr"/>
        <c:lblOffset val="100"/>
        <c:noMultiLvlLbl val="0"/>
      </c:catAx>
      <c:valAx>
        <c:axId val="86339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81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90C-B0F2-4C07-AFE3-1A0B1C05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7FB-BA42-4B34-B51F-3EDAACE5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D23-BAA9-4E6E-B2AC-5AE8112E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F35-EB1D-4018-AF64-D8E13B6E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8C4-12D8-4CD0-8815-2849ABC1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010-C495-4185-9337-D815E805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F32-36AB-4DA3-ACF2-5FCD18FD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36D-E807-4BD5-AB58-64B387C7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9D0-CD82-4BF8-808B-C98E8A9B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865-2EE7-4121-A2B9-58E14837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223-28A5-467A-AE41-7C277848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8D4-1B1B-4D0A-8BB1-2AE65C91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E325C-D66F-4230-865F-53525BA444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