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91307"/>
        <c:axId val="81203950"/>
      </c:barChart>
      <c:catAx>
        <c:axId val="65591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3950"/>
        <c:crosses val="autoZero"/>
        <c:auto val="1"/>
        <c:lblAlgn val="ctr"/>
        <c:lblOffset val="100"/>
        <c:noMultiLvlLbl val="0"/>
      </c:catAx>
      <c:valAx>
        <c:axId val="81203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91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4AA-D148-413F-96AE-45E45185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0F-70C9-40A0-BD8C-5EE66B3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DEC-5ABF-44FC-9430-5ED32A3F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DDD-BAD9-43CE-86C6-3732BFC3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773-4B15-4E06-96A6-11560E6A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A4A-6FC6-43DA-BF88-56C644B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E41-81C5-4F7C-A236-5ED6073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7E6-EDCF-447F-B14E-83118BD8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7AB-36C6-42EA-9DD7-2AB6F6AC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FF5-A431-4209-AC7D-13DA155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091-F830-4845-8E7C-8B3748F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13A-0324-4781-A5D1-F5471CF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C35F4-E653-4169-991A-27F4758491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