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63394"/>
        <c:axId val="81783314"/>
      </c:barChart>
      <c:catAx>
        <c:axId val="41663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83314"/>
        <c:crosses val="autoZero"/>
        <c:auto val="1"/>
        <c:lblAlgn val="ctr"/>
        <c:lblOffset val="100"/>
        <c:noMultiLvlLbl val="0"/>
      </c:catAx>
      <c:valAx>
        <c:axId val="81783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63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D1A4-E887-466A-A639-99F2888F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442-234A-4341-A1BE-71C457EE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6B7-7EEE-4534-93A3-3E8D33C8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C24-926E-434A-9933-B5E3ABF1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D6D-9C85-4F74-A744-14B7CB62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AD1-193C-453F-8027-D492A421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9188-42A5-42D2-8579-D81FD14B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E3C-D0B4-496F-A245-632751D2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441-A831-4CF3-820E-71850D48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AE4-0D11-462C-A86D-F5D43E31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CF6C-9DA2-4F0A-9138-D5DFD7E7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C97-FF08-47BC-BBDE-E09C9DC4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3B151-CE9C-40E4-995F-4E18BCBA5D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