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60422"/>
        <c:axId val="77585619"/>
      </c:barChart>
      <c:catAx>
        <c:axId val="86460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85619"/>
        <c:crosses val="autoZero"/>
        <c:auto val="1"/>
        <c:lblAlgn val="ctr"/>
        <c:lblOffset val="100"/>
        <c:noMultiLvlLbl val="0"/>
      </c:catAx>
      <c:valAx>
        <c:axId val="77585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0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31A-56BB-4117-A6BE-754328B3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E7F-E93E-4F3E-BAE8-8D00F294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15C-8B60-4BCC-BFB0-C22FB366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0A6-90FB-420B-807F-C8C9FD5A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524-1E25-4B86-91D5-DBC79454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5A7-3A95-42A7-B004-436F9BC9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94C9-1E75-4953-80E5-FA323B98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642-2338-4ABF-9E52-8D455453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38E-368B-48D3-89AB-F3002E1E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DEB-BA18-4DAB-A531-9BCAFD72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82C-964E-4F7C-AE18-1E7EA5A5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9F9-173F-446B-AD28-6E59CFF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FE20C-C8CD-461D-B422-EF17B89049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