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47514"/>
        <c:axId val="95668669"/>
      </c:barChart>
      <c:catAx>
        <c:axId val="12147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68669"/>
        <c:crosses val="autoZero"/>
        <c:auto val="1"/>
        <c:lblAlgn val="ctr"/>
        <c:lblOffset val="100"/>
        <c:noMultiLvlLbl val="0"/>
      </c:catAx>
      <c:valAx>
        <c:axId val="95668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47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F20-CD63-49E7-9694-926ACDE0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3D9-4A8E-4726-8792-E9928A6B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41B-824B-4A66-8F71-27E3905C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A45-C69D-46F1-9F0D-A37A4E2F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B00-92C3-4F95-AA8F-74FDB152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435-D254-461E-8F51-548F4B7D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BD1-3DE1-4960-AE6F-07AFADF8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ECF-7F5F-431E-AD66-C25DBB6E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05A-447A-440B-B2D5-B3048E29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BFC-6852-4DF7-B621-AF16552B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043-CE25-4AFE-9CD4-18CD3639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E3A-05CE-4F87-991F-EA4F3720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8CDFD-288F-4105-8DF9-CE49FE91A5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