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48139"/>
        <c:axId val="3683219"/>
      </c:barChart>
      <c:catAx>
        <c:axId val="78048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3219"/>
        <c:crosses val="autoZero"/>
        <c:auto val="1"/>
        <c:lblAlgn val="ctr"/>
        <c:lblOffset val="100"/>
        <c:noMultiLvlLbl val="0"/>
      </c:catAx>
      <c:valAx>
        <c:axId val="3683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8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3F2-4C94-4FE6-BBBC-529638D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487-9E9C-47AB-9122-DB1BAB6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3B0-C858-417D-9ECD-2CBEF51A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CAD-0D38-4FD8-B2A7-7F9B3BAD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2CE-E071-4037-B02D-20F958E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4A4-095D-4C78-8CD9-E85A9BC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CA9-537B-479F-B05F-30F595D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408-A067-4F03-AC8E-7A517AD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08B-2621-4A63-BAE3-44076F7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A97-DA9F-408F-BADE-2B6665EE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6D1-54A2-40C1-A96D-3870E32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DAA-D56E-413B-B99B-F42119C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6039E-5BCC-40A3-BB63-7FA59A3E98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