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60932"/>
        <c:axId val="34799943"/>
      </c:barChart>
      <c:catAx>
        <c:axId val="496609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99943"/>
        <c:crosses val="autoZero"/>
        <c:auto val="1"/>
        <c:lblAlgn val="ctr"/>
        <c:lblOffset val="100"/>
        <c:noMultiLvlLbl val="0"/>
      </c:catAx>
      <c:valAx>
        <c:axId val="347999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609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16F-FE46-4129-9762-2974265B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A0A-37C7-4B78-A169-68739043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2F65-9FC1-468E-AD45-6C922039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ED2-E08C-48DB-952D-542C20F3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3CD-E574-46DE-B27B-D21CE8B3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5E4-6BD6-4607-96EA-44E54C3B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1C2-9EFE-4ED5-B8B6-A7D7BA36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98C-6559-489C-96E6-F38A071D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8E0-924D-4A98-95AD-EC7175E3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A77-CCF6-4C4A-AAD5-DB4D681A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59DF-3F01-493C-B659-F4B91F40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8B2-B0B2-4F25-827B-43322D4D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40E81-BCC9-4FDE-9AF5-DE18A82EF3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