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76652"/>
        <c:axId val="11723441"/>
      </c:barChart>
      <c:catAx>
        <c:axId val="93276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23441"/>
        <c:crosses val="autoZero"/>
        <c:auto val="1"/>
        <c:lblAlgn val="ctr"/>
        <c:lblOffset val="100"/>
        <c:noMultiLvlLbl val="0"/>
      </c:catAx>
      <c:valAx>
        <c:axId val="11723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76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403-F1B6-4CE0-89CA-EEEF4CAD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2FE-94DA-4F5A-8C42-76DECD8E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3DA-B1FE-4BE7-BC8C-0F805357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274-C138-4F57-9EC4-05E276B4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C97-FD52-408C-AAC6-E7A69BEB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1B9-EBDD-4D5C-B618-CC0F5F32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45B-7162-4ED3-866F-7D9EEB2B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F3B-5134-4889-8C5C-9C9F5713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258-9467-49BA-9291-8860F1AC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C00-C3AE-4633-B5F9-0E4EB8DE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922-62CB-4C90-86A0-0145FF1E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4FE-19DE-40DF-B1AB-2ED253D7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FF23A-161C-4E2E-9827-247D000DD2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