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61098"/>
        <c:axId val="41644652"/>
      </c:barChart>
      <c:catAx>
        <c:axId val="68261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44652"/>
        <c:crosses val="autoZero"/>
        <c:auto val="1"/>
        <c:lblAlgn val="ctr"/>
        <c:lblOffset val="100"/>
        <c:noMultiLvlLbl val="0"/>
      </c:catAx>
      <c:valAx>
        <c:axId val="41644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61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C10-ED44-4409-B745-4F1BA43B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349-E55F-43B3-98BC-93DFC6D0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88D-8F1F-4B1B-858D-2E7F09BF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D9E-317D-4E91-8E91-0EB8A7E5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D3B-5E38-469F-90F3-C532814B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C76-5FE2-4F27-8E4B-C83CBA5B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8FA-6FF6-45A3-875D-6DBBAFAA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21F-DD3F-44DB-8709-3015CCDE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328-5817-4BA7-AF52-705A6407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FA9-7281-48C6-820C-DD043540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8C4-2BC3-40FB-9992-0B9EF68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A5D-7200-4581-B59D-3A06DA91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A297A-D687-4C5A-8971-05F01BB7D8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