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17992"/>
        <c:axId val="52630521"/>
      </c:barChart>
      <c:catAx>
        <c:axId val="50217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0521"/>
        <c:crosses val="autoZero"/>
        <c:auto val="1"/>
        <c:lblAlgn val="ctr"/>
        <c:lblOffset val="100"/>
        <c:noMultiLvlLbl val="0"/>
      </c:catAx>
      <c:valAx>
        <c:axId val="52630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17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994-D727-45B8-BA76-AE5A7866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FB5-C378-4873-8030-019C0B3C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5EF-F419-4FF2-910C-8D056C7D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83A-E591-491E-9A81-6483F5EE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E3C-774B-41EA-9AAD-9119C34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19A-F221-485C-B703-3D71ED87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DE5-F024-47ED-810C-8948B8B0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5D7-D4B2-411F-8AC8-59754B72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5CB-5911-47D5-A191-9A3B1392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BB7-73C1-4A33-B09F-2E52688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BE8-136B-45C2-9B1A-A0722C3C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003-00E0-4CFA-A35E-F781A483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6D875-9947-4471-9FBD-DB93F82F4B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