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40065"/>
        <c:axId val="37225152"/>
      </c:barChart>
      <c:catAx>
        <c:axId val="96340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25152"/>
        <c:crosses val="autoZero"/>
        <c:auto val="1"/>
        <c:lblAlgn val="ctr"/>
        <c:lblOffset val="100"/>
        <c:noMultiLvlLbl val="0"/>
      </c:catAx>
      <c:valAx>
        <c:axId val="37225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0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380-A364-40C3-B8A7-CB4FBE6B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86F-8BE9-4A86-9574-F2E1636C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38D-4190-465B-9AF5-18C43020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3B7-71E1-43BA-850A-FD2E983F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245-B179-40FC-BC3E-F7715F55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07C-2C11-46F2-92D0-731932A3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346-9385-4588-A478-B6D38392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6B6-D7C2-4874-86EB-FC03DE64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CD3-CC6B-4146-94AB-848B86F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29F-7372-484B-8E33-0012AA27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FCA-A9F8-4585-B53F-FA6D158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68F-9066-4140-B4CA-51B36CA2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BEAD6-1670-4E6B-A42D-597EF24BB3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