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404308"/>
        <c:axId val="25759198"/>
      </c:barChart>
      <c:catAx>
        <c:axId val="314043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759198"/>
        <c:crosses val="autoZero"/>
        <c:auto val="1"/>
        <c:lblAlgn val="ctr"/>
        <c:lblOffset val="100"/>
        <c:noMultiLvlLbl val="0"/>
      </c:catAx>
      <c:valAx>
        <c:axId val="257591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4043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E67D-8B9E-449E-BAD8-D6A45F315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9826-5AB5-4BE2-BF39-B9053A895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A88F-CC91-4808-851C-367A6CB79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6930-F3F9-4EA2-B75E-F0D6299B0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9300-1377-4AC0-86F9-1167C643E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F8A4-E8FC-4BB8-9FDD-0D3B1EE73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54C7-A325-4E61-B184-7DF81A06A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9E23-B098-4DCE-A782-2CFE13F62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A16D-18EE-422C-B8D0-EBB49CC26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8309-81EA-4518-A349-4712DC90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28A0-A649-4FAE-90AC-C5E7CAB6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1106-9F7E-4CD1-A750-C3F8CB4C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1CEAA4-3F08-46B4-AABE-8A7197D68A3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