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41825"/>
        <c:axId val="90626017"/>
      </c:barChart>
      <c:catAx>
        <c:axId val="72941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26017"/>
        <c:crosses val="autoZero"/>
        <c:auto val="1"/>
        <c:lblAlgn val="ctr"/>
        <c:lblOffset val="100"/>
        <c:noMultiLvlLbl val="0"/>
      </c:catAx>
      <c:valAx>
        <c:axId val="90626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41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B9D-F255-4BE7-A005-60D31248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F44-81F5-414E-872C-64CBB41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A63-9F3C-4F79-888F-39FE6CE7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7A0-0AD8-4268-839D-59D536E2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879-6AE3-4B30-B09B-B0119489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743-7374-4A76-99DA-989DA8CF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C43-49D8-4A88-9F7A-D99F9655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FB7-7D58-49B7-8DA8-2A538044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CFF-0A03-48E9-94AF-5312EDAE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4D7-BAE3-4D1F-A3B5-5B55378A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FDB-931F-4470-9574-46CD832B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852-6747-4E10-8F2D-EEA4A037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31FFC-FBA0-47A2-A06F-4CD1609108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