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82722"/>
        <c:axId val="79746622"/>
      </c:barChart>
      <c:catAx>
        <c:axId val="70582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46622"/>
        <c:crosses val="autoZero"/>
        <c:auto val="1"/>
        <c:lblAlgn val="ctr"/>
        <c:lblOffset val="100"/>
        <c:noMultiLvlLbl val="0"/>
      </c:catAx>
      <c:valAx>
        <c:axId val="79746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82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9B9-729B-4A43-8E38-AEC0CF6C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F00-F90E-4A61-B333-225EA67A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987-E576-49EE-A3CB-678CD3B0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1EF-6B74-49C2-A6D4-04578A23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F2E-0FFE-444C-AE60-BFBF2133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A3E-3E13-4003-8641-7CA3CC17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C9F-02D1-4BAF-B768-ABB21630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FC8-C199-41D1-9CF1-D5D24E64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23F-EB62-4C15-9930-39AF0C6E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3F5-CE45-4B01-A787-9662C7F0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F64-3EEA-4336-96E9-B7255C47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994-422D-4EFB-99BA-F17701C7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45538-2BDD-4BD4-BA4B-D9C2F2D494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