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410146"/>
        <c:axId val="30141280"/>
      </c:barChart>
      <c:catAx>
        <c:axId val="874101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41280"/>
        <c:crosses val="autoZero"/>
        <c:auto val="1"/>
        <c:lblAlgn val="ctr"/>
        <c:lblOffset val="100"/>
        <c:noMultiLvlLbl val="0"/>
      </c:catAx>
      <c:valAx>
        <c:axId val="301412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4101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9137-A59B-4E33-8C4E-A8F62660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E497-B106-4066-82B2-64AD9EB8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CA61-EE2F-44E9-AE7E-BD23E7D25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942A-4C45-4DA7-9A34-52FD17FC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0A04-C264-406D-BF79-D91F9E6A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F4F6-E763-4B77-8F50-B3127A2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7ED-C22D-40DB-ABED-C5A9434D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C49-4A60-453A-8711-CFD08C80B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D4A-6EAF-4C16-BB6E-4A4191F2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E04-F7EB-4466-A91D-36E22C0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BA45-1770-414F-BE88-EBAFE2FD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FA3-6C93-40FF-95C5-A312890B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35305-0BE0-4EA2-8BBA-AEE93B6A98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