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91267"/>
        <c:axId val="70142194"/>
      </c:barChart>
      <c:catAx>
        <c:axId val="35591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42194"/>
        <c:crosses val="autoZero"/>
        <c:auto val="1"/>
        <c:lblAlgn val="ctr"/>
        <c:lblOffset val="100"/>
        <c:noMultiLvlLbl val="0"/>
      </c:catAx>
      <c:valAx>
        <c:axId val="70142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91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7A3-9C91-47C8-A9AB-ABB4049D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932-7EFB-4FC0-89B5-85281691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D03-291F-419C-8C13-06176D7F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DB2-54CE-4F21-B9C5-619302BB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012-7D0B-4824-80AC-42E3625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256-17D5-4DD6-8E43-D76194AF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66E-144F-4B18-9623-149DAE9F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32B-8991-465E-8F25-0B092B2B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C25-58EA-4376-8191-22484A85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E06-381F-489C-AA6C-33B84AD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117-EF87-4D64-8C2F-3367A400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82B-7040-4978-9887-2371A0E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C65D2-92DB-476D-A959-E58E77476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