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87470"/>
        <c:axId val="36563313"/>
      </c:barChart>
      <c:catAx>
        <c:axId val="32187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3313"/>
        <c:crosses val="autoZero"/>
        <c:auto val="1"/>
        <c:lblAlgn val="ctr"/>
        <c:lblOffset val="100"/>
        <c:noMultiLvlLbl val="0"/>
      </c:catAx>
      <c:valAx>
        <c:axId val="3656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7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0C9-5A55-458F-8200-552AA418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5C-60F7-41B4-89F6-7F60F3B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48E-AA8C-4A13-BA7B-63E12EA0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49C-CD11-4F01-9A1A-3B17CBC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D25-0DC5-4B5F-ACCA-B1DC388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BBB-A388-41B8-BB26-EFC3020B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F09-4ED4-4A3A-829E-9B9540C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6EA-11DD-40FC-A855-77CBB23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9BD-19AE-4CE4-83C3-9E19825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B64-9ED8-4FF4-9E88-48A13D73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99D-F4D6-4D0B-ABDA-EF3BD24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5AC-E6BB-4210-99AD-0761C3D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1F1D1-3DC3-49BC-95AE-A2DE673425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