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56202"/>
        <c:axId val="86600051"/>
      </c:barChart>
      <c:catAx>
        <c:axId val="89856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00051"/>
        <c:crosses val="autoZero"/>
        <c:auto val="1"/>
        <c:lblAlgn val="ctr"/>
        <c:lblOffset val="100"/>
        <c:noMultiLvlLbl val="0"/>
      </c:catAx>
      <c:valAx>
        <c:axId val="86600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56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3FC-A805-477C-A639-FD85EBA0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803-1ACD-4851-B3E7-CEF6B801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500-842B-4EF1-82B4-77A5283F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992-FAD5-4D78-AACD-51CD8249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0B2-8BD9-40BA-94CD-8A1769B8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56C-AE53-4918-BE64-BB23A476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270-1331-4BB7-AFA8-C9217ACF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AE8-9DDA-4070-8FD2-9F8D4B6D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7E7-A5ED-4412-AD17-221F8903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A14-6AF1-4CD1-8A26-817FE63D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08B-0D54-427A-A7B9-79C6A03E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2F1-8F7E-4291-8705-A1CC3E72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9FAEA-D4DB-4070-AD6E-8D6D40CACD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