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68010"/>
        <c:axId val="39424095"/>
      </c:barChart>
      <c:catAx>
        <c:axId val="80068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24095"/>
        <c:crosses val="autoZero"/>
        <c:auto val="1"/>
        <c:lblAlgn val="ctr"/>
        <c:lblOffset val="100"/>
        <c:noMultiLvlLbl val="0"/>
      </c:catAx>
      <c:valAx>
        <c:axId val="39424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68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C31-7071-445F-999B-1A4FAB2E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A74-916D-4653-8A7A-59FC17D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B89-446A-473D-BA54-03466606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5A5-DECD-4C1F-9F01-5CF96B53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BD0-F512-47B7-9B83-CC10E665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CEB-6520-45DC-93C8-2B0DBC4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E4F-575A-459A-9DB4-26C2C6D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E81-2589-4B6E-81EE-F5C165B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E91-6FF6-4315-A91E-2262B51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C13-63ED-4B5F-8AC5-52844898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8CE-67A3-46BC-A2F4-7991388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F3A-CB68-4439-B05B-22863833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8146-0133-445E-9D1E-EEAC43DFBC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