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07469"/>
        <c:axId val="86818539"/>
      </c:barChart>
      <c:catAx>
        <c:axId val="35407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8539"/>
        <c:crosses val="autoZero"/>
        <c:auto val="1"/>
        <c:lblAlgn val="ctr"/>
        <c:lblOffset val="100"/>
        <c:noMultiLvlLbl val="0"/>
      </c:catAx>
      <c:valAx>
        <c:axId val="86818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07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132-6B6A-4B0C-8C06-707D9E9E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05C-0FEA-4319-A1E1-E4EB201A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A7E-7210-470E-84EA-F99C879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ECB-DE22-4E44-874F-7F32842E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22C-380E-4B8A-8892-BAE2E175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18E-A728-4A7C-844C-881037AE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9FA-7B7A-4733-B095-2DA9B72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04D-9656-45C7-9D75-6FEC5A4F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6E5-50DD-4A80-95AF-1749FA2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3EC-78AD-45B9-8635-2460E7F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753-F117-4939-B35F-E225088B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500-081B-494D-B263-0410CA1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AAB5-42C6-4126-8627-2BC40859B2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