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30565"/>
        <c:axId val="88879263"/>
      </c:barChart>
      <c:catAx>
        <c:axId val="94930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9263"/>
        <c:crosses val="autoZero"/>
        <c:auto val="1"/>
        <c:lblAlgn val="ctr"/>
        <c:lblOffset val="100"/>
        <c:noMultiLvlLbl val="0"/>
      </c:catAx>
      <c:valAx>
        <c:axId val="88879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30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980-694B-45BC-A65B-E80382A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47D-687C-4975-AAA6-B5287DD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5B2-5DC3-4279-B2F9-BE1DE13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260-F4DD-4A16-81B4-927E9F6F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B90-E066-498A-B1C1-F15C1A4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F8A-67E4-44A1-AD2D-484C903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19A-5155-49F0-BD87-799508E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09-A4C5-496F-97E5-4C1F4EE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51F-FC34-4691-B143-5705B92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D24-49E2-41C0-968D-EDB0076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B2B-4E38-4574-80BE-9345477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581-7A4E-4D58-89BB-1DCC2AA5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1B67-0987-409E-9D6B-8118AC8BEE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