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92144"/>
        <c:axId val="94415592"/>
      </c:barChart>
      <c:catAx>
        <c:axId val="56392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15592"/>
        <c:crosses val="autoZero"/>
        <c:auto val="1"/>
        <c:lblAlgn val="ctr"/>
        <c:lblOffset val="100"/>
        <c:noMultiLvlLbl val="0"/>
      </c:catAx>
      <c:valAx>
        <c:axId val="94415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92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436-0FCA-478D-A2DA-C82A7E68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F7C0-A997-41EF-A3CE-D4EC52A3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BC5-5D38-441F-A08B-2B2BEC3D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A05F-A9D2-48BD-B037-6C3EDC12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D7B-4C01-4306-9A35-EB26F5FA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165-6871-40C7-BEFF-F8961694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00CA-D31A-43B3-BB60-63C7B794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2D2D-8AEA-4115-9F86-8A0E3B33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80F9-2364-4F8D-BA3F-A78F706A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CD8E-2774-4B91-AD2A-E39964F9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D68-7C35-4100-8C60-CE6F9BC6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40A-A29C-4922-9160-DD304C2B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30C71-CDD8-4805-A895-F60E84BF7E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