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50051"/>
        <c:axId val="21586763"/>
      </c:barChart>
      <c:catAx>
        <c:axId val="48650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6763"/>
        <c:crosses val="autoZero"/>
        <c:auto val="1"/>
        <c:lblAlgn val="ctr"/>
        <c:lblOffset val="100"/>
        <c:noMultiLvlLbl val="0"/>
      </c:catAx>
      <c:valAx>
        <c:axId val="2158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50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2AE-81AC-4A75-8FCF-F765BAAB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3EB-AE58-4782-A4D3-DEA62C8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8E5-705D-4576-B85A-7005DC23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501-AA4E-4459-B24A-A803F2A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B2C-1197-47F2-B014-1118632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9FF-F4DB-43ED-9408-033842A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B34-34AC-4D25-AD67-BF4D49C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F85-0D06-4FBE-879B-946600D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801-3A96-4D91-8AC5-DA83FCF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A15-9AEA-438F-896B-236028C4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93F-83ED-4897-90BD-8E20683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8D3-F356-476D-AF62-C26657F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D12B3-0853-46CC-943C-367C808A88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