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066774"/>
        <c:axId val="75919984"/>
      </c:barChart>
      <c:catAx>
        <c:axId val="960667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19984"/>
        <c:crosses val="autoZero"/>
        <c:auto val="1"/>
        <c:lblAlgn val="ctr"/>
        <c:lblOffset val="100"/>
        <c:noMultiLvlLbl val="0"/>
      </c:catAx>
      <c:valAx>
        <c:axId val="759199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667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F5B3-5200-4691-A65E-85DCB41C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FF83-4075-4ECC-94D5-617068BA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ECF-C152-4356-8807-EC8086E1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69C4-143B-4F99-96C4-8E1C91CF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9147-B0E0-47D7-90DB-75731887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C1D-F698-4925-BEFA-FF34DB89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C2F-CEE1-4FC2-B923-CC8D1C22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4B92-C782-4CB5-B28A-EE52DC7D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F84-19D9-4C73-A466-0B991ECE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C09-6F34-440F-94A1-C1170B95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3D3E-62F8-48C2-9DE4-313AF4B4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A6C-88D1-4131-95CB-B553CB87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75B74-5C73-4298-9065-55F67AB23E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