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71292"/>
        <c:axId val="43029148"/>
      </c:barChart>
      <c:catAx>
        <c:axId val="76571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29148"/>
        <c:crosses val="autoZero"/>
        <c:auto val="1"/>
        <c:lblAlgn val="ctr"/>
        <c:lblOffset val="100"/>
        <c:noMultiLvlLbl val="0"/>
      </c:catAx>
      <c:valAx>
        <c:axId val="43029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71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2F7-8896-40A4-BFDF-7F69259E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E4E-C525-4B0D-A4F8-3625AEF3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3C7-B973-489C-95A9-7687139D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EAC-1C64-4166-9096-CA1F30D4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66F-F77B-4466-8CDE-6140BAA3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DBEA-519D-4049-A87B-ACCB79B8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736-BDB7-41E8-931C-1DA968D3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F30-4ED6-47E3-92D9-D17DE59B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1F6-1AB1-4B88-B147-E67CE1C8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BFA-EB30-46C8-86F2-96A734E8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96D-B7BE-4C71-9E1A-D4BBFC73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CA6-DC48-45B8-9D30-77D2A8C6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A2E3A-C07A-4E99-AFF1-A05E6DBFAB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