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62797"/>
        <c:axId val="17072067"/>
      </c:barChart>
      <c:catAx>
        <c:axId val="69462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2067"/>
        <c:crosses val="autoZero"/>
        <c:auto val="1"/>
        <c:lblAlgn val="ctr"/>
        <c:lblOffset val="100"/>
        <c:noMultiLvlLbl val="0"/>
      </c:catAx>
      <c:valAx>
        <c:axId val="17072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62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C69-5984-4190-8029-4F093580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2EE-02BC-4522-BB16-EB44F725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B3C-4DF2-495A-AEBF-F2A2482E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140-B55C-4EBB-B205-953E7ACB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D83-6DB3-4127-8EB4-8E48558C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242-CE10-47FB-ACA7-2C8D4ADA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391-E2A9-416C-A678-02B5C198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B72-401B-48F5-9998-51DB3378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A06-E95E-4C22-9ECE-2C253C5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D84-28B9-4704-8AD5-48113139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596-CAEF-4A02-860B-8D01DB64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8B3-53D8-4E5C-B095-DE374A84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CE3E-23C4-4644-9566-8A427A3C30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