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22584"/>
        <c:axId val="32238992"/>
      </c:barChart>
      <c:catAx>
        <c:axId val="88422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8992"/>
        <c:crosses val="autoZero"/>
        <c:auto val="1"/>
        <c:lblAlgn val="ctr"/>
        <c:lblOffset val="100"/>
        <c:noMultiLvlLbl val="0"/>
      </c:catAx>
      <c:valAx>
        <c:axId val="32238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2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50F-BE9B-45AE-A434-B88A59E6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70A-ABFF-4522-8D44-FF9C3F5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546-25D8-4C01-86D3-4E3AC1E5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3FD-2226-43D9-94F7-78CD044B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928-3CF1-4EA9-BA47-50CBD47D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5B2-59A8-4C0F-B9AC-75102568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378-AC40-4320-A973-720C8FD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784-AEA8-4D43-870F-720B2E78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72C-156E-4578-90C4-786CCE0D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78A-1AB0-45A2-AED7-A259D22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F8D-CC39-4B5C-B554-02780BF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134-9D63-4C5D-85D9-652EA24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895C5-BCBD-4482-B8BD-3F59E7969F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