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670594"/>
        <c:axId val="33374262"/>
      </c:barChart>
      <c:catAx>
        <c:axId val="666705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374262"/>
        <c:crosses val="autoZero"/>
        <c:auto val="1"/>
        <c:lblAlgn val="ctr"/>
        <c:lblOffset val="100"/>
        <c:noMultiLvlLbl val="0"/>
      </c:catAx>
      <c:valAx>
        <c:axId val="333742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6705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6B35-D9B4-44A6-9228-EEEABD9E3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4CDD-3813-49B3-B37D-621DB0600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C5EA-AAB4-4B17-9F19-A8713B829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BE2E-71A3-43A7-8E76-FD388FF6D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2E44-75AF-4D58-86C4-BFA8AE26B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7AF0-9386-40F1-BD11-904441744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5EB2-449F-478E-9CF0-FB4D6169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ADF6-2813-4229-9B61-AED073555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EF4D-A035-4117-B341-DC24773F5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36F6-1B63-461C-AC4D-8FA6DBCA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D38A-7CB4-43B8-98ED-E6CB8641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D26C-FDF3-4874-A036-DB2CC3C6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878AE3-AF92-46E8-92A0-2E43BFC8C79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