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20601"/>
        <c:axId val="60166043"/>
      </c:barChart>
      <c:catAx>
        <c:axId val="3942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6043"/>
        <c:crosses val="autoZero"/>
        <c:auto val="1"/>
        <c:lblAlgn val="ctr"/>
        <c:lblOffset val="100"/>
        <c:noMultiLvlLbl val="0"/>
      </c:catAx>
      <c:valAx>
        <c:axId val="60166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A29-8B6C-4357-9401-01725507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62E-B365-4A03-8919-D5E360CD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A08-E491-4111-88C7-4F050D7B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2B3-9E97-4CDD-B18B-229EA4BD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AF6-B387-41F6-B124-B0A2975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2F6-09A7-4BB5-938A-0E3A33A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9F9-48A9-4654-BAD7-EC424590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E84-A2BC-4451-B215-4609ED1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42D-C08B-4499-96EF-F6DF23C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B2E-3CAF-45AC-B23F-18DF720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177-C6F6-4DAB-9A3F-928B1D2E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5FF-DE77-4F35-83DE-C0CAFE5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A6A1F-0246-448D-BEA0-9C01C8EBEE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