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41957"/>
        <c:axId val="19724240"/>
      </c:barChart>
      <c:catAx>
        <c:axId val="94841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24240"/>
        <c:crosses val="autoZero"/>
        <c:auto val="1"/>
        <c:lblAlgn val="ctr"/>
        <c:lblOffset val="100"/>
        <c:noMultiLvlLbl val="0"/>
      </c:catAx>
      <c:valAx>
        <c:axId val="19724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41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C65-151B-4BDE-943A-7D5FEC44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DE73-CC70-417F-AAC1-87127A34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024-181B-4578-88B0-21578879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641-2719-4C8B-84AF-8FBD51FA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686-8139-461D-95E6-8993B454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F20-8778-43D1-91D6-8E311790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7E1-3E33-4086-A59B-C549BE8D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168-69D6-465D-953B-C5F39894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331-BDDE-4617-8846-A7207577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9E1-43E1-4F51-966A-712D81F7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B5E-3677-40A0-A943-9CFBB3DC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EEF-E0AE-462D-8D1B-05A08504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8D997-D917-465C-98F9-ADA653BD4D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