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12977"/>
        <c:axId val="4896959"/>
      </c:barChart>
      <c:catAx>
        <c:axId val="83112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6959"/>
        <c:crosses val="autoZero"/>
        <c:auto val="1"/>
        <c:lblAlgn val="ctr"/>
        <c:lblOffset val="100"/>
        <c:noMultiLvlLbl val="0"/>
      </c:catAx>
      <c:valAx>
        <c:axId val="4896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12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B61-2F66-4654-8AD9-3374C11C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3BC-49AC-4714-9769-AB5F062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8B5-EC89-4914-B9D3-7CD03DBB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102-E3BA-4EEF-B849-9090EEA9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E62-DEC2-4E0E-B8E9-F8E84AD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874-CF11-4109-9017-E8D3E4A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4C9-B1B2-4554-A938-9D01ED1A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C64-F0A1-400C-B821-E8F9B21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D0A-15F6-4336-A070-A14BC954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A32-DF6C-406A-85AC-99AECB5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9F7-CAC1-4F98-A5E3-C31E73C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8F8-EB43-4160-A493-62F6D2D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90EB-A5B6-4E73-806A-E65C67C29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