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169129"/>
        <c:axId val="47636725"/>
      </c:barChart>
      <c:catAx>
        <c:axId val="261691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636725"/>
        <c:crosses val="autoZero"/>
        <c:auto val="1"/>
        <c:lblAlgn val="ctr"/>
        <c:lblOffset val="100"/>
        <c:noMultiLvlLbl val="0"/>
      </c:catAx>
      <c:valAx>
        <c:axId val="476367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1691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B0CA-251D-4E9E-A9AA-B8F7F0345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8E8A-F689-4269-888A-2FD0C5BDB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8F74-7B67-4C59-A884-B225FB692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0807-6CD5-4011-BCE3-1841FB9D1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E5B4-B609-45B7-860E-F676D70EF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F886-AB3E-4DF4-BF26-F01934F0C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972E-30EC-416C-BCA1-C5C10D971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3EAE-C066-4749-8267-34EB12F36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B708-410A-4328-88D9-65D681F23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8BA9-65DD-40DC-B733-689B689FE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25BD-2126-4E3C-8040-1AED7CCD6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57E9-B0CF-4464-AED8-04CAE5DD7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0B8A5C-9F78-44CC-9746-76A577E7086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