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72098"/>
        <c:axId val="33539387"/>
      </c:barChart>
      <c:catAx>
        <c:axId val="53272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39387"/>
        <c:crosses val="autoZero"/>
        <c:auto val="1"/>
        <c:lblAlgn val="ctr"/>
        <c:lblOffset val="100"/>
        <c:noMultiLvlLbl val="0"/>
      </c:catAx>
      <c:valAx>
        <c:axId val="33539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72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98E-9CA8-4D9C-B4A0-8EBCAF81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F82-C48F-4DD2-9C01-8199C51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1A9-4E47-4434-AA4C-ABB65BF6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F72-77D3-4C7B-8E44-29ACBC6E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C1A-5530-4341-B39B-79054C16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FFB-2EA3-4DAB-B513-32F7B313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19B-C64B-4BBB-8B8C-F2BA2272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F5D-DE3F-4CD2-8CA6-40A39DA3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B80-8700-4386-A345-39F78364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736-8703-4C37-8F56-92DE5C4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C44-5A7C-42F4-B5B5-A6DB8E5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94A-FC16-46AB-A515-51E082E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F4FE7-97A6-4652-8215-1E1901A831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