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5162"/>
        <c:axId val="26218212"/>
      </c:barChart>
      <c:catAx>
        <c:axId val="25951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18212"/>
        <c:crosses val="autoZero"/>
        <c:auto val="1"/>
        <c:lblAlgn val="ctr"/>
        <c:lblOffset val="100"/>
        <c:noMultiLvlLbl val="0"/>
      </c:catAx>
      <c:valAx>
        <c:axId val="262182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51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69B3-9F94-4782-841E-7174C38A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9703-A41D-475C-85F3-8E56CE48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1BF-459D-435A-B7BB-51B8BA3D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1B01-2E90-42A2-AC96-D18D585F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FE9B-7E6A-4940-92CF-E23DA857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2E3-E97B-4DBF-96F1-438E2A42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A0D-1D14-4BD3-9077-379F41D8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4520-2688-42C0-A3F6-610F6C68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65D-F078-41C6-94C5-830A3E1F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B34-2D0A-4AB0-9055-8A9485E2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6277-966B-4AC2-A157-40083517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7C8A-419F-4EE1-811B-8DAD7DF4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4C82F-7962-43E8-812F-9ECFFD7EDC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