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75016"/>
        <c:axId val="49379297"/>
      </c:barChart>
      <c:catAx>
        <c:axId val="80375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79297"/>
        <c:crosses val="autoZero"/>
        <c:auto val="1"/>
        <c:lblAlgn val="ctr"/>
        <c:lblOffset val="100"/>
        <c:noMultiLvlLbl val="0"/>
      </c:catAx>
      <c:valAx>
        <c:axId val="49379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75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91D-EC72-4CA9-80F5-7E6A727C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8A5-FC56-4025-94E9-2A1E26C4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811-967E-4610-8E5E-7F4D14F9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98D-6316-412B-A212-C6DC0CEB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1B9-A656-49F2-8058-1888FBB3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C24-A8F3-4EE8-8215-C910E173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736-93EE-44E7-9CAD-CDFC8F77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769-F7DC-4AAF-BB2F-0799B4D7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A13-627C-43D7-97C1-74650F35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CB5C-D94B-4D78-AB1B-B8EB6E54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764-B467-4E0B-9FDD-D2A213B3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7B9-A3DC-466A-9B00-6AD406C8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E857C-6F5E-4B66-B1DE-990AEC26A5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