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52827"/>
        <c:axId val="14567088"/>
      </c:barChart>
      <c:catAx>
        <c:axId val="83352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7088"/>
        <c:crosses val="autoZero"/>
        <c:auto val="1"/>
        <c:lblAlgn val="ctr"/>
        <c:lblOffset val="100"/>
        <c:noMultiLvlLbl val="0"/>
      </c:catAx>
      <c:valAx>
        <c:axId val="14567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2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861-5F9B-4AAB-8B31-7F9848E6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2EE-53D1-4E3E-A386-D64A311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76A-596D-4A07-A7CD-44D25DB4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BFC-E581-422E-9C8A-0CA30A00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5D5-747B-4CD8-BE14-FF894518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EE5-1B9B-4183-A51C-796BB5D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035-0AC7-4C86-B396-BDDEE468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CBA-D0B1-4B7E-B70B-703CF68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811-0079-40CB-BF87-9515896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764-969B-421F-B43D-FB6DA79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498-668E-4B23-A21C-AFC0198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EC4-3B74-443F-B2EF-B9A70D4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3851-BDE7-4C06-9EC0-B164F4CC2B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