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43224"/>
        <c:axId val="43868473"/>
      </c:barChart>
      <c:catAx>
        <c:axId val="27543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68473"/>
        <c:crosses val="autoZero"/>
        <c:auto val="1"/>
        <c:lblAlgn val="ctr"/>
        <c:lblOffset val="100"/>
        <c:noMultiLvlLbl val="0"/>
      </c:catAx>
      <c:valAx>
        <c:axId val="43868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3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9E4-BE94-479B-B95D-37BB1BB2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8C1-8ABD-45FB-9D12-61D48E8B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E11-C0C5-43B6-B317-96CB2BEA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136-EF81-4FF6-AE81-7FD07DC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351-4E59-44CB-BEE4-843DBF2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D60-86BF-464A-B602-012A476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32D-20EC-4941-A163-483AF316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143-83BD-40A4-87E1-A9B1E51E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746-2854-4310-87A9-52B064D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A07-BC5C-427E-998C-3CBD8D7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CE5-A541-4C42-AEB3-B08FE8A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FA-99FD-48D0-9DF4-378292C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10409-B807-450B-B99B-DB953E590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